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E1F4-F707-4AD9-B860-BEE9FF3E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C16-6B0C-465B-AE87-C9F9A633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DE83-6E97-40B5-81A8-C8AD5595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D6E8-E8DE-4FC2-97B9-DEA4C50A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773-E92C-4980-8B06-595F464B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DCF6-853A-40F2-88FA-ED9A6BD7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2DC3-060A-4024-8420-F72D70A9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16D-A70B-4654-9E19-4A8B1755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6521-1AE7-435A-9A91-FF19EDB1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FFD-4280-4F8E-A142-4C28606F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4D5-58C5-42B1-B1FD-8FD04E63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6182-8499-4530-846C-F8B6E1DC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FA72-6468-4185-A1C8-0F4062E28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43120"/>
            <a:ext cx="9144000" cy="147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Verdana"/>
              </a:rPr>
              <a:t>LAW OF CONSERVATION OF M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3200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692360" y="3500280"/>
          <a:ext cx="6095880" cy="2492640"/>
        </p:xfrm>
        <a:graphic>
          <a:graphicData uri="http://schemas.openxmlformats.org/drawingml/2006/table">
            <a:tbl>
              <a:tblPr/>
              <a:tblGrid>
                <a:gridCol w="647640"/>
                <a:gridCol w="2400120"/>
                <a:gridCol w="695520"/>
                <a:gridCol w="2352600"/>
              </a:tblGrid>
              <a:tr h="249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3200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692360" y="3500280"/>
          <a:ext cx="6095880" cy="2492640"/>
        </p:xfrm>
        <a:graphic>
          <a:graphicData uri="http://schemas.openxmlformats.org/drawingml/2006/table">
            <a:tbl>
              <a:tblPr/>
              <a:tblGrid>
                <a:gridCol w="647640"/>
                <a:gridCol w="2400120"/>
                <a:gridCol w="695520"/>
                <a:gridCol w="2352600"/>
              </a:tblGrid>
              <a:tr h="249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Text Box 16"/>
          <p:cNvSpPr/>
          <p:nvPr/>
        </p:nvSpPr>
        <p:spPr>
          <a:xfrm>
            <a:off x="2628000" y="2492280"/>
            <a:ext cx="42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BALANCED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-D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619280" y="3645000"/>
          <a:ext cx="6095880" cy="2492280"/>
        </p:xfrm>
        <a:graphic>
          <a:graphicData uri="http://schemas.openxmlformats.org/drawingml/2006/table">
            <a:tbl>
              <a:tblPr/>
              <a:tblGrid>
                <a:gridCol w="647640"/>
                <a:gridCol w="2400480"/>
                <a:gridCol w="695160"/>
                <a:gridCol w="2352600"/>
              </a:tblGrid>
              <a:tr h="24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6"/>
          <p:cNvSpPr/>
          <p:nvPr/>
        </p:nvSpPr>
        <p:spPr>
          <a:xfrm>
            <a:off x="4932360" y="4581360"/>
            <a:ext cx="3624120" cy="6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be tempted to put a 3 in front of the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try th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-D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619280" y="3645000"/>
          <a:ext cx="6095880" cy="2492280"/>
        </p:xfrm>
        <a:graphic>
          <a:graphicData uri="http://schemas.openxmlformats.org/drawingml/2006/table">
            <a:tbl>
              <a:tblPr/>
              <a:tblGrid>
                <a:gridCol w="647640"/>
                <a:gridCol w="2400480"/>
                <a:gridCol w="695160"/>
                <a:gridCol w="2352600"/>
              </a:tblGrid>
              <a:tr h="24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-D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619280" y="3645000"/>
          <a:ext cx="6095880" cy="2492280"/>
        </p:xfrm>
        <a:graphic>
          <a:graphicData uri="http://schemas.openxmlformats.org/drawingml/2006/table">
            <a:tbl>
              <a:tblPr/>
              <a:tblGrid>
                <a:gridCol w="647640"/>
                <a:gridCol w="2400480"/>
                <a:gridCol w="695160"/>
                <a:gridCol w="2352600"/>
              </a:tblGrid>
              <a:tr h="24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-D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1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18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19280" y="3645000"/>
          <a:ext cx="6095880" cy="2492280"/>
        </p:xfrm>
        <a:graphic>
          <a:graphicData uri="http://schemas.openxmlformats.org/drawingml/2006/table">
            <a:tbl>
              <a:tblPr/>
              <a:tblGrid>
                <a:gridCol w="647640"/>
                <a:gridCol w="2400480"/>
                <a:gridCol w="695160"/>
                <a:gridCol w="2352600"/>
              </a:tblGrid>
              <a:tr h="24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16"/>
          <p:cNvSpPr/>
          <p:nvPr/>
        </p:nvSpPr>
        <p:spPr>
          <a:xfrm>
            <a:off x="971640" y="5373720"/>
            <a:ext cx="7200720" cy="105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S HARDER AND HARDER!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it doesn’t seem to work, start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gai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using DIFFERENT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7"/>
          <p:cNvSpPr/>
          <p:nvPr/>
        </p:nvSpPr>
        <p:spPr>
          <a:xfrm rot="2700000">
            <a:off x="1907640" y="476280"/>
            <a:ext cx="5400720" cy="5400720"/>
          </a:xfrm>
          <a:prstGeom prst="plus">
            <a:avLst>
              <a:gd name="adj" fmla="val 4464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3200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332000" y="2708280"/>
          <a:ext cx="6095880" cy="2492280"/>
        </p:xfrm>
        <a:graphic>
          <a:graphicData uri="http://schemas.openxmlformats.org/drawingml/2006/table">
            <a:tbl>
              <a:tblPr/>
              <a:tblGrid>
                <a:gridCol w="647640"/>
                <a:gridCol w="2400120"/>
                <a:gridCol w="695520"/>
                <a:gridCol w="2352600"/>
              </a:tblGrid>
              <a:tr h="24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AutoShape 34"/>
          <p:cNvSpPr/>
          <p:nvPr/>
        </p:nvSpPr>
        <p:spPr>
          <a:xfrm>
            <a:off x="1476360" y="4292640"/>
            <a:ext cx="7128000" cy="2232000"/>
          </a:xfrm>
          <a:prstGeom prst="wedgeRoundRectCallout">
            <a:avLst>
              <a:gd name="adj1" fmla="val 3495"/>
              <a:gd name="adj2" fmla="val -774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hen you see an odd number, just multiply the compound that is making the number odd by 2 to make it even, and easier to work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5"/>
          <p:cNvSpPr/>
          <p:nvPr/>
        </p:nvSpPr>
        <p:spPr>
          <a:xfrm>
            <a:off x="3924360" y="1484280"/>
            <a:ext cx="79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6"/>
          <p:cNvSpPr/>
          <p:nvPr/>
        </p:nvSpPr>
        <p:spPr>
          <a:xfrm>
            <a:off x="4932360" y="2708280"/>
            <a:ext cx="100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KOH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a(OH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619280" y="4100400"/>
          <a:ext cx="5908680" cy="256716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Oval 25"/>
          <p:cNvSpPr/>
          <p:nvPr/>
        </p:nvSpPr>
        <p:spPr>
          <a:xfrm>
            <a:off x="1619280" y="4579920"/>
            <a:ext cx="86508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6"/>
          <p:cNvSpPr/>
          <p:nvPr/>
        </p:nvSpPr>
        <p:spPr>
          <a:xfrm>
            <a:off x="4500720" y="4508640"/>
            <a:ext cx="86508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1"/>
          <p:cNvGrpSpPr/>
          <p:nvPr/>
        </p:nvGrpSpPr>
        <p:grpSpPr>
          <a:xfrm>
            <a:off x="1116000" y="1413000"/>
            <a:ext cx="7704000" cy="1683720"/>
            <a:chOff x="1116000" y="1413000"/>
            <a:chExt cx="7704000" cy="1683720"/>
          </a:xfrm>
        </p:grpSpPr>
        <p:sp>
          <p:nvSpPr>
            <p:cNvPr id="109" name="Oval 16"/>
            <p:cNvSpPr/>
            <p:nvPr/>
          </p:nvSpPr>
          <p:spPr>
            <a:xfrm>
              <a:off x="1116000" y="1484280"/>
              <a:ext cx="1224000" cy="10796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7"/>
            <p:cNvSpPr/>
            <p:nvPr/>
          </p:nvSpPr>
          <p:spPr>
            <a:xfrm>
              <a:off x="7596360" y="1413000"/>
              <a:ext cx="1223640" cy="10792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1187280" y="2637000"/>
              <a:ext cx="51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olyatomic ions!!!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9"/>
            <p:cNvSpPr/>
            <p:nvPr/>
          </p:nvSpPr>
          <p:spPr>
            <a:xfrm>
              <a:off x="2987640" y="1484280"/>
              <a:ext cx="936720" cy="108108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0"/>
            <p:cNvSpPr/>
            <p:nvPr/>
          </p:nvSpPr>
          <p:spPr>
            <a:xfrm>
              <a:off x="5292720" y="1484280"/>
              <a:ext cx="936720" cy="108108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Oval 32"/>
          <p:cNvSpPr/>
          <p:nvPr/>
        </p:nvSpPr>
        <p:spPr>
          <a:xfrm>
            <a:off x="1619280" y="5613480"/>
            <a:ext cx="865080" cy="647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3"/>
          <p:cNvSpPr/>
          <p:nvPr/>
        </p:nvSpPr>
        <p:spPr>
          <a:xfrm>
            <a:off x="4500720" y="5541840"/>
            <a:ext cx="865080" cy="648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4"/>
          <p:cNvSpPr/>
          <p:nvPr/>
        </p:nvSpPr>
        <p:spPr>
          <a:xfrm>
            <a:off x="1116000" y="314172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You can think of polyatomic ions as INDIVIDUAL elements when completing the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O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a(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O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19280" y="3789360"/>
          <a:ext cx="5908680" cy="256716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2K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O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a(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O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619280" y="3789360"/>
          <a:ext cx="5908680" cy="256716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16"/>
          <p:cNvSpPr/>
          <p:nvPr/>
        </p:nvSpPr>
        <p:spPr>
          <a:xfrm>
            <a:off x="2556720" y="2637000"/>
            <a:ext cx="42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BALANCED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2412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Verdana"/>
              </a:rPr>
              <a:t>LAW OF CONSERVATION OF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s://gcps.desire2learn.com/d2l/lor/viewer/viewFile.d2lfile/6605/48500/Matter/conservationofmatter/Law_of_conservation_of_matter.gif"/>
          <p:cNvPicPr/>
          <p:nvPr/>
        </p:nvPicPr>
        <p:blipFill>
          <a:blip r:embed="rId1"/>
          <a:stretch/>
        </p:blipFill>
        <p:spPr>
          <a:xfrm>
            <a:off x="179280" y="3357720"/>
            <a:ext cx="8783640" cy="3201840"/>
          </a:xfrm>
          <a:prstGeom prst="rect">
            <a:avLst/>
          </a:prstGeom>
          <a:ln w="0">
            <a:noFill/>
          </a:ln>
        </p:spPr>
      </p:pic>
      <p:sp>
        <p:nvSpPr>
          <p:cNvPr id="44" name="Trapezoid 1"/>
          <p:cNvSpPr/>
          <p:nvPr/>
        </p:nvSpPr>
        <p:spPr>
          <a:xfrm>
            <a:off x="6516720" y="5661000"/>
            <a:ext cx="1303200" cy="360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283320" y="620640"/>
            <a:ext cx="615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following chemical re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1827000" y="1268280"/>
            <a:ext cx="5513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1133280" y="1844640"/>
            <a:ext cx="34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ants =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00.23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4928400" y="1814400"/>
            <a:ext cx="21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 =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1789200" y="2492280"/>
            <a:ext cx="55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What is the mass of the produ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741720" y="1814400"/>
            <a:ext cx="156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00.23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eft Brace 3"/>
          <p:cNvSpPr/>
          <p:nvPr/>
        </p:nvSpPr>
        <p:spPr>
          <a:xfrm rot="16200000">
            <a:off x="2955960" y="507960"/>
            <a:ext cx="279360" cy="2664000"/>
          </a:xfrm>
          <a:custGeom>
            <a:avLst/>
            <a:gdLst>
              <a:gd name="textAreaLeft" fmla="*/ 178560 w 279360"/>
              <a:gd name="textAreaRight" fmla="*/ 279720 w 279360"/>
              <a:gd name="textAreaTop" fmla="*/ 7200 h 2664000"/>
              <a:gd name="textAreaBottom" fmla="*/ 265680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eft Brace 11"/>
          <p:cNvSpPr/>
          <p:nvPr/>
        </p:nvSpPr>
        <p:spPr>
          <a:xfrm rot="16200000">
            <a:off x="5945760" y="757800"/>
            <a:ext cx="279360" cy="2163960"/>
          </a:xfrm>
          <a:custGeom>
            <a:avLst/>
            <a:gdLst>
              <a:gd name="textAreaLeft" fmla="*/ 178560 w 279360"/>
              <a:gd name="textAreaRight" fmla="*/ 279720 w 279360"/>
              <a:gd name="textAreaTop" fmla="*/ 7200 h 2163960"/>
              <a:gd name="textAreaBottom" fmla="*/ 2156760 h 216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NaOH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Na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116000" y="314172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You can pretend that each polyatomic ion is an INDIVIDUAL element when making the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NaOH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Na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19280" y="3789360"/>
          <a:ext cx="5908680" cy="256716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OH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Na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619280" y="3789360"/>
          <a:ext cx="5908680" cy="256716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3NaOH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Na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619280" y="3789360"/>
          <a:ext cx="5908680" cy="256716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Text Box 16"/>
          <p:cNvSpPr/>
          <p:nvPr/>
        </p:nvSpPr>
        <p:spPr>
          <a:xfrm>
            <a:off x="2556720" y="2637000"/>
            <a:ext cx="42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BALANCED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(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aC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116000" y="2852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You can substitute each polyatomic ion with an X, Y, or Z to make life a little easi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9"/>
          <p:cNvGrpSpPr/>
          <p:nvPr/>
        </p:nvGrpSpPr>
        <p:grpSpPr>
          <a:xfrm>
            <a:off x="0" y="4076640"/>
            <a:ext cx="9144000" cy="2212920"/>
            <a:chOff x="0" y="4076640"/>
            <a:chExt cx="9144000" cy="2212920"/>
          </a:xfrm>
        </p:grpSpPr>
        <p:sp>
          <p:nvSpPr>
            <p:cNvPr id="141" name="Rectangle 5"/>
            <p:cNvSpPr/>
            <p:nvPr/>
          </p:nvSpPr>
          <p:spPr>
            <a:xfrm>
              <a:off x="0" y="4076640"/>
              <a:ext cx="914400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aCl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+ (</a:t>
              </a: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NH</a:t>
              </a:r>
              <a:r>
                <a:rPr b="0" lang="en-US" sz="4000" spc="-1" strike="noStrike" baseline="-25000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0" lang="en-US" sz="40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Ba</a:t>
              </a:r>
              <a:r>
                <a:rPr b="0" lang="en-US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0" lang="en-US" sz="40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NH</a:t>
              </a:r>
              <a:r>
                <a:rPr b="0" lang="en-US" sz="4000" spc="-1" strike="noStrike" baseline="-25000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6"/>
            <p:cNvSpPr/>
            <p:nvPr/>
          </p:nvSpPr>
          <p:spPr>
            <a:xfrm>
              <a:off x="2771640" y="479592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>
              <a:off x="4067280" y="479592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1476360" y="5157720"/>
              <a:ext cx="385128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4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a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19280" y="3789360"/>
          <a:ext cx="5908680" cy="256716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a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619280" y="3956040"/>
          <a:ext cx="5908680" cy="256716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16"/>
          <p:cNvSpPr/>
          <p:nvPr/>
        </p:nvSpPr>
        <p:spPr>
          <a:xfrm>
            <a:off x="2556720" y="2637000"/>
            <a:ext cx="421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BALANCED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...but not done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619280" y="3956040"/>
          <a:ext cx="5908680" cy="256716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75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Rectangle 18"/>
          <p:cNvSpPr/>
          <p:nvPr/>
        </p:nvSpPr>
        <p:spPr>
          <a:xfrm>
            <a:off x="0" y="1628640"/>
            <a:ext cx="9144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(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aC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250920" y="270828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N’T KEEP X’s and Y’s in your answer. Replace them with the polyatomic 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2"/>
          <p:cNvGrpSpPr/>
          <p:nvPr/>
        </p:nvGrpSpPr>
        <p:grpSpPr>
          <a:xfrm>
            <a:off x="6948360" y="2133720"/>
            <a:ext cx="2167920" cy="1231560"/>
            <a:chOff x="6948360" y="2133720"/>
            <a:chExt cx="2167920" cy="1231560"/>
          </a:xfrm>
        </p:grpSpPr>
        <p:sp>
          <p:nvSpPr>
            <p:cNvPr id="157" name="Freeform 20"/>
            <p:cNvSpPr/>
            <p:nvPr/>
          </p:nvSpPr>
          <p:spPr>
            <a:xfrm>
              <a:off x="6948360" y="2133720"/>
              <a:ext cx="2087280" cy="1176120"/>
            </a:xfrm>
            <a:custGeom>
              <a:avLst/>
              <a:gdLst>
                <a:gd name="textAreaLeft" fmla="*/ 0 w 2087280"/>
                <a:gd name="textAreaRight" fmla="*/ 2087640 w 208728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946" h="2223">
                  <a:moveTo>
                    <a:pt x="0" y="1316"/>
                  </a:moveTo>
                  <a:lnTo>
                    <a:pt x="453" y="1089"/>
                  </a:lnTo>
                  <a:lnTo>
                    <a:pt x="816" y="1769"/>
                  </a:lnTo>
                  <a:lnTo>
                    <a:pt x="3946" y="0"/>
                  </a:lnTo>
                  <a:lnTo>
                    <a:pt x="680" y="2223"/>
                  </a:lnTo>
                  <a:lnTo>
                    <a:pt x="0" y="1316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1"/>
            <p:cNvSpPr/>
            <p:nvPr/>
          </p:nvSpPr>
          <p:spPr>
            <a:xfrm>
              <a:off x="7742160" y="299700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CORREC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-36360" y="1531800"/>
            <a:ext cx="9144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nc sulfide + oxygen g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inc oxide + sulfur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1908000" y="1268280"/>
            <a:ext cx="52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ORD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250920" y="2349360"/>
            <a:ext cx="866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vert this to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mical equ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also known as a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keleton equ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”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his is when you use your naming/formula-writing rul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3"/>
          <p:cNvSpPr/>
          <p:nvPr/>
        </p:nvSpPr>
        <p:spPr>
          <a:xfrm>
            <a:off x="3924360" y="3860640"/>
            <a:ext cx="936720" cy="792360"/>
          </a:xfrm>
          <a:prstGeom prst="downArrow">
            <a:avLst>
              <a:gd name="adj1" fmla="val 49833"/>
              <a:gd name="adj2" fmla="val 6172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25"/>
          <p:cNvGrpSpPr/>
          <p:nvPr/>
        </p:nvGrpSpPr>
        <p:grpSpPr>
          <a:xfrm>
            <a:off x="0" y="4724280"/>
            <a:ext cx="9144000" cy="2133720"/>
            <a:chOff x="0" y="4724280"/>
            <a:chExt cx="9144000" cy="2133720"/>
          </a:xfrm>
        </p:grpSpPr>
        <p:sp>
          <p:nvSpPr>
            <p:cNvPr id="165" name="Rectangle 22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ZnS + 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ZnO + S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1835280" y="4724280"/>
              <a:ext cx="527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CHEMICAL EQ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155736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nS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ZnO + 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619280" y="3956040"/>
          <a:ext cx="5908680" cy="249228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4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AutoShape 21"/>
          <p:cNvSpPr/>
          <p:nvPr/>
        </p:nvSpPr>
        <p:spPr>
          <a:xfrm>
            <a:off x="6084720" y="2276640"/>
            <a:ext cx="2737080" cy="1511280"/>
          </a:xfrm>
          <a:prstGeom prst="wedgeRoundRectCallout">
            <a:avLst>
              <a:gd name="adj1" fmla="val -62990"/>
              <a:gd name="adj2" fmla="val 13834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Make this number even by multiplying the compound that’s causing the oddness b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412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Verdana"/>
              </a:rPr>
              <a:t>LAW OF CONSERVATION OF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348840" y="2205000"/>
            <a:ext cx="48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 of Conservation of Ma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1570320" y="2781360"/>
            <a:ext cx="67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tter cannot be created or destro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79280" y="2205000"/>
            <a:ext cx="8713800" cy="1181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0" y="155736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nS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nO + 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619280" y="3956040"/>
          <a:ext cx="5908680" cy="249228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4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155736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nS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ZnO + 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9280" y="3956040"/>
          <a:ext cx="5908680" cy="249228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4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155736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ZnS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ZnO + 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19280" y="3956040"/>
          <a:ext cx="5908680" cy="249228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4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155736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ZnS + 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ZnO +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619280" y="3956040"/>
          <a:ext cx="5908680" cy="249228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4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16"/>
          <p:cNvSpPr/>
          <p:nvPr/>
        </p:nvSpPr>
        <p:spPr>
          <a:xfrm>
            <a:off x="2556720" y="2637000"/>
            <a:ext cx="42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BALANCED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2412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Verdana"/>
              </a:rPr>
              <a:t>LAW OF CONSERVATION OF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324000" y="67464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chemical reaction, although matter may change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t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ss does not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www.docbrown.info/page04/4_73calcs/IronPlusSulphur.gif"/>
          <p:cNvPicPr/>
          <p:nvPr/>
        </p:nvPicPr>
        <p:blipFill>
          <a:blip r:embed="rId1"/>
          <a:stretch/>
        </p:blipFill>
        <p:spPr>
          <a:xfrm>
            <a:off x="755640" y="2027160"/>
            <a:ext cx="752796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2412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Verdana"/>
              </a:rPr>
              <a:t>LAW OF CONSERVATION OF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campbellms.typepad.com/.a/6a00d83467970453ef017c329ebe21970b-800wi"/>
          <p:cNvPicPr/>
          <p:nvPr/>
        </p:nvPicPr>
        <p:blipFill>
          <a:blip r:embed="rId1"/>
          <a:stretch/>
        </p:blipFill>
        <p:spPr>
          <a:xfrm>
            <a:off x="1116000" y="1844640"/>
            <a:ext cx="6912000" cy="50324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324000" y="54936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when writing a chemical equation, all atoms must b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lanc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the reactants and the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2412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Verdana"/>
              </a:rPr>
              <a:t>LAW OF CONSERVATION OF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24000" y="5493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ys of writing chemical rea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306360" y="1403280"/>
            <a:ext cx="849636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ord eq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dium + chlorine gas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sod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ente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dium and chlorine gas yield sod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hemical/skeleton eq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N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(s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(g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2NaC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2412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Verdana"/>
              </a:rPr>
              <a:t>LAW OF CONSERVATION OF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24000" y="15192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row symb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608040" y="2259000"/>
            <a:ext cx="80676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Na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Arial"/>
              </a:rPr>
              <a:t>(s)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+ Cl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Arial"/>
              </a:rPr>
              <a:t>2(g)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NaCl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Arial"/>
              </a:rPr>
              <a:t>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1"/>
          <p:cNvSpPr/>
          <p:nvPr/>
        </p:nvSpPr>
        <p:spPr>
          <a:xfrm>
            <a:off x="4290840" y="2521080"/>
            <a:ext cx="1433520" cy="287280"/>
          </a:xfrm>
          <a:prstGeom prst="rightArrow">
            <a:avLst>
              <a:gd name="adj1" fmla="val 50000"/>
              <a:gd name="adj2" fmla="val 13195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306360" y="35542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s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iel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N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replaced with an equal sign (=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643120"/>
            <a:ext cx="9144000" cy="147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BALANCING CHEMICA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3200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692360" y="3500280"/>
          <a:ext cx="6095880" cy="2492640"/>
        </p:xfrm>
        <a:graphic>
          <a:graphicData uri="http://schemas.openxmlformats.org/drawingml/2006/table">
            <a:tbl>
              <a:tblPr/>
              <a:tblGrid>
                <a:gridCol w="647640"/>
                <a:gridCol w="2400120"/>
                <a:gridCol w="695520"/>
                <a:gridCol w="2352600"/>
              </a:tblGrid>
              <a:tr h="249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21:33:23Z</dcterms:created>
  <dc:creator>Alan</dc:creator>
  <dc:description/>
  <dc:language>en-US</dc:language>
  <cp:lastModifiedBy>Alan</cp:lastModifiedBy>
  <dcterms:modified xsi:type="dcterms:W3CDTF">2013-09-13T19:10:14Z</dcterms:modified>
  <cp:revision>25</cp:revision>
  <dc:subject/>
  <dc:title>Balancing Chemical Equations</dc:title>
</cp:coreProperties>
</file>